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54F-A21C-4562-A73F-368A73A8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3F7-13F2-4E34-B1B8-E99E208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FDF-80C8-4707-B64F-BC51C2F7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C20-91A3-4527-919F-60769E07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FAAF-3241-41B6-9554-254DD34D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DD73-D67D-489E-9F77-DA8C85C8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B5E4-870A-46DD-9989-5883602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E5FD-B006-418F-8F9C-64816837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F62A-DB5F-47E8-8680-D30B393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101-9A9B-42BB-AE76-2EB0C512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ACE-BA3D-43D9-AD22-7FB5DB8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2EF-894E-4526-BB1A-688D45DC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49F1-FD74-4951-A28C-DE530783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4BB2-36FA-4EDC-A6BE-E7DE267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9F3F-4783-4C71-94CA-4DBE95E1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4D2-9103-4A3F-9820-DCA0C967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FAE-4F0A-4860-A85A-FC26F880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BB1-A96C-4AF8-B2E4-2D8D3AA4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761-EDDB-46FE-86B0-694AB6D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A32-0B2D-4E43-AE4C-22D2C0A6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9BA-32A8-495C-B90C-99DD45B9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69A-99BF-4FE8-ABF3-42151FA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7D0-7793-48CC-AEAD-F0F79DF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C7D-415B-48F0-B1AB-BA475564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BF55-7ABC-4E52-9B8E-E821F5350C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89B2-C3EB-4BF0-936C-A00B141E249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x 2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4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421.6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68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6858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685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3600" y="2819520"/>
          <a:ext cx="31240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19520"/>
                    <a:ext cx="31240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성민 학교프로그램용</cp:lastModifiedBy>
  <dcterms:modified xsi:type="dcterms:W3CDTF">2008-12-01T10:34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